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B9446E-0004-42FB-9E64-FF33FD0A6F0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0E5DAB-C849-45E1-A87C-4563E2DC32D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67C831-6D43-48E0-8DF0-A0FABD71D94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2728C6-FFE0-4BB2-AECC-FE083815EC2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10E952-2955-4CF2-A479-09DFC5E785D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0C87D9-2E6C-4270-A13A-EDE5F1F5B8C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D492D2-9037-4FA0-916D-8AB28B3F617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69C165-DA25-4595-BFBF-6B8C1314444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F05450-0A15-49A6-B3F1-7334133BEDE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359C2F-655F-465C-882B-F1515DB4FEA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C6BE8D-A66F-487D-8B91-F9A7803EAAA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D86CD3-11F6-4824-B626-C5B48529861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04E8-7198-4080-957C-84873D48F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BB67-5CD5-4C77-B416-9A7F4EB32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9FBA-DCBA-4BA6-842E-C0EBFED9C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0CB8-D79A-4946-9E87-5C99B09BF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8E0D-CB4C-4AD1-A81E-C2BFA8465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2063-8759-452C-915C-63B983B09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C8C6-6BF8-4211-B68B-7E96266B1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F96C-BB9D-4C14-A3FC-281B553C1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EBAF-5819-4CA1-8F11-F1B8B737B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8555-388D-4FDB-B797-2E1CF50F6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AD13-903A-492C-AA0D-36F5E349E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7D98-1480-4CDF-A37A-F0D7648B7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304755E-3E64-457B-9CD8-4131A88E385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var/www/vhosts/freefileconvert.com/ALNm41/&#1048;&#1085;&#1090;&#1077;&#1083;&#1052;41/PREZENTAZIYA.odp#&#1057;&#1090;&#1088;&#1072;&#1085;&#1080;&#1094;&#1072;%201" TargetMode="External"/><Relationship Id="rId3" Type="http://schemas.openxmlformats.org/officeDocument/2006/relationships/hyperlink" Target="file:///var/www/vhosts/freefileconvert.com/ALNm41/&#1048;&#1085;&#1090;&#1077;&#1083;&#1052;41/PREZENTAZIYA2.odp#&#1057;&#1090;&#1088;&#1072;&#1085;&#1080;&#1094;&#1072;%201" TargetMode="External"/><Relationship Id="rId4" Type="http://schemas.openxmlformats.org/officeDocument/2006/relationships/hyperlink" Target="file:///var/www/vhosts/freefileconvert.com/httpdocs/student_samples/student_publication/PUBLIKAZIYA.odt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s.yandex.ru/yandsearch?rpt=image&amp;text=&#1053;&#1072;&#1085;&#1086;&#1088;&#1086;&#1073;&#1086;&#1090;" TargetMode="External"/><Relationship Id="rId3" Type="http://schemas.openxmlformats.org/officeDocument/2006/relationships/hyperlink" Target="http://gelous.net/2025:article:nano_v_protezirovanii" TargetMode="External"/><Relationship Id="rId4" Type="http://schemas.openxmlformats.org/officeDocument/2006/relationships/hyperlink" Target="http://www.nanonewsnet.ru/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6659640" cy="7559640"/>
          </a:xfrm>
          <a:prstGeom prst="rect">
            <a:avLst/>
          </a:prstGeom>
          <a:ln w="0">
            <a:noFill/>
          </a:ln>
        </p:spPr>
      </p:pic>
      <p:sp>
        <p:nvSpPr>
          <p:cNvPr id="50" name="WordArt 4"/>
          <p:cNvSpPr txBox="1"/>
          <p:nvPr/>
        </p:nvSpPr>
        <p:spPr>
          <a:xfrm>
            <a:off x="1079640" y="720720"/>
            <a:ext cx="701964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8199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51166" dir="8082896" blurRad="0" rotWithShape="0">
                    <a:srgbClr val="99ccff"/>
                  </a:outerShdw>
                </a:effectLst>
                <a:latin typeface="Times New Roman"/>
              </a:rPr>
              <a:t>Будущее </a:t>
            </a:r>
            <a:endParaRPr b="0" lang="en-US" sz="1800" spc="1" strike="noStrike">
              <a:ln w="0">
                <a:noFill/>
              </a:ln>
              <a:solidFill>
                <a:srgbClr val="000080"/>
              </a:solidFill>
              <a:effectLst>
                <a:outerShdw dist="51166" dir="8082896" blurRad="0" rotWithShape="0">
                  <a:srgbClr val="99cc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1" name="WordArt 5"/>
          <p:cNvSpPr txBox="1"/>
          <p:nvPr/>
        </p:nvSpPr>
        <p:spPr>
          <a:xfrm>
            <a:off x="1260360" y="2879640"/>
            <a:ext cx="774072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8199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51166" dir="8082896" blurRad="0" rotWithShape="0">
                    <a:srgbClr val="99ccff"/>
                  </a:outerShdw>
                </a:effectLst>
                <a:latin typeface="Times New Roman"/>
              </a:rPr>
              <a:t>нанотехнологий</a:t>
            </a:r>
            <a:endParaRPr b="0" lang="en-US" sz="1800" spc="1" strike="noStrike">
              <a:ln w="0">
                <a:noFill/>
              </a:ln>
              <a:solidFill>
                <a:srgbClr val="000080"/>
              </a:solidFill>
              <a:effectLst>
                <a:outerShdw dist="51166" dir="8082896" blurRad="0" rotWithShape="0">
                  <a:srgbClr val="99ccff"/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96" name="WordArt 2"/>
          <p:cNvSpPr txBox="1"/>
          <p:nvPr/>
        </p:nvSpPr>
        <p:spPr>
          <a:xfrm>
            <a:off x="720720" y="539640"/>
            <a:ext cx="845964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52735" dir="2700000" blurRad="0" rotWithShape="0">
                    <a:srgbClr val="868686"/>
                  </a:outerShdw>
                </a:effectLst>
                <a:latin typeface="Arial Black"/>
              </a:rPr>
              <a:t>Результаты исследования учащихс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52735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88720" y="230040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убликация по теме «              развития нанотехнологий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зентация</a:t>
            </a:r>
            <a:r>
              <a:rPr b="0" lang="ru-RU" sz="32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"О чудный новый мир нанотехнологий"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зентация </a:t>
            </a:r>
            <a:r>
              <a:rPr b="0" lang="ru-RU" sz="32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"Нанотехнологии: беспечное будущее или опасность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5040360" y="2340000"/>
            <a:ext cx="1439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4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Истор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01" name="WordArt 2"/>
          <p:cNvSpPr txBox="1"/>
          <p:nvPr/>
        </p:nvSpPr>
        <p:spPr>
          <a:xfrm>
            <a:off x="539640" y="179280"/>
            <a:ext cx="846000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52735" dir="2700000" blurRad="0" rotWithShape="0">
                    <a:srgbClr val="868686"/>
                  </a:outerShdw>
                </a:effectLst>
                <a:latin typeface="Arial Black"/>
              </a:rPr>
              <a:t>Используемые ресурсы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52735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images.yandex.ru/yandsearch?rpt=image&amp;text=%D0%9D%D0%B0%D0%BD%D0%BE%D1%80%D0%BE%D0%B1%D0%BE%D1%8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http://gelous.net/2025:article:nano_v_protezirovan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http://www.nanonewsnet.ru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http://ru.wikipedia.org/wiki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http://nanotube.ru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http://www.nano.com.ua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http://www.starenie.ru/texnologii/nanotex.ph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http://nit.miem.edu.ru/2005/plenar/6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000" y="230040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обходимость России догнать страны Европы и США в развитии нанотехнологи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нотехнология является совокупностью сразу нескольких наук школьного курса: физики, химии, биологии и др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анный проект может заинтересовать учащихся и являться мотивацией к более углубленному изучению точных нау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WordArt 4"/>
          <p:cNvSpPr txBox="1"/>
          <p:nvPr/>
        </p:nvSpPr>
        <p:spPr>
          <a:xfrm>
            <a:off x="900000" y="179280"/>
            <a:ext cx="846000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52735" dir="2700000" blurRad="0" rotWithShape="0">
                    <a:srgbClr val="868686"/>
                  </a:outerShdw>
                </a:effectLst>
                <a:latin typeface="Arial Black"/>
              </a:rPr>
              <a:t>Актуальность   тем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52735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6" name="Picture 5" descr=""/>
          <p:cNvPicPr/>
          <p:nvPr/>
        </p:nvPicPr>
        <p:blipFill>
          <a:blip r:embed="rId2"/>
          <a:stretch/>
        </p:blipFill>
        <p:spPr>
          <a:xfrm>
            <a:off x="8280360" y="5940360"/>
            <a:ext cx="1389240" cy="138924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WordArt 3"/>
          <p:cNvSpPr txBox="1"/>
          <p:nvPr/>
        </p:nvSpPr>
        <p:spPr>
          <a:xfrm>
            <a:off x="900000" y="360360"/>
            <a:ext cx="846000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52735" dir="2700000" blurRad="0" rotWithShape="0">
                    <a:srgbClr val="868686"/>
                  </a:outerShdw>
                </a:effectLst>
                <a:latin typeface="Arial Black"/>
              </a:rPr>
              <a:t>Дидактические   цел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52735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000" y="251892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ормирование у учащихся компетентности в области науки нанотехнолог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ормирование представления о таких понятиях, как нанотехнология, наноэтика,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тивация к углубленному изучению наук – химии, физики, биолог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"/>
          <p:cNvPicPr/>
          <p:nvPr/>
        </p:nvPicPr>
        <p:blipFill>
          <a:blip r:embed="rId2"/>
          <a:stretch/>
        </p:blipFill>
        <p:spPr>
          <a:xfrm>
            <a:off x="8280360" y="5580000"/>
            <a:ext cx="1619280" cy="161928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WordArt 3"/>
          <p:cNvSpPr txBox="1"/>
          <p:nvPr/>
        </p:nvSpPr>
        <p:spPr>
          <a:xfrm>
            <a:off x="539640" y="539640"/>
            <a:ext cx="846000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52735" dir="2700000" blurRad="0" rotWithShape="0">
                    <a:srgbClr val="868686"/>
                  </a:outerShdw>
                </a:effectLst>
                <a:latin typeface="Arial Black"/>
              </a:rPr>
              <a:t>Методические   цел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52735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000" y="2300040"/>
            <a:ext cx="9070920" cy="498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учить школьников перерабатывать и обобщать полученную информацию в результате проведенных опытов и эксперимент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ормирование компетентности в сфере самостоятельной деятельност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"/>
          <p:cNvPicPr/>
          <p:nvPr/>
        </p:nvPicPr>
        <p:blipFill>
          <a:blip r:embed="rId2"/>
          <a:stretch/>
        </p:blipFill>
        <p:spPr>
          <a:xfrm>
            <a:off x="8331120" y="5630760"/>
            <a:ext cx="1568520" cy="156852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539280" y="3603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4752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К чему приведет развитие нанотехнологий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WordArt 4"/>
          <p:cNvSpPr txBox="1"/>
          <p:nvPr/>
        </p:nvSpPr>
        <p:spPr>
          <a:xfrm>
            <a:off x="539640" y="360360"/>
            <a:ext cx="864072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52735" dir="2700000" blurRad="0" rotWithShape="0">
                    <a:srgbClr val="868686"/>
                  </a:outerShdw>
                </a:effectLst>
                <a:latin typeface="Arial Black"/>
              </a:rPr>
              <a:t>Основополагающий вопро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52735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539640" y="4451400"/>
            <a:ext cx="840744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4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Беспечное будущее                   или                          Опаснос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6" descr=""/>
          <p:cNvPicPr/>
          <p:nvPr/>
        </p:nvPicPr>
        <p:blipFill>
          <a:blip r:embed="rId2"/>
          <a:stretch/>
        </p:blipFill>
        <p:spPr>
          <a:xfrm>
            <a:off x="0" y="5040360"/>
            <a:ext cx="5040360" cy="25192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"/>
          <p:cNvPicPr/>
          <p:nvPr/>
        </p:nvPicPr>
        <p:blipFill>
          <a:blip r:embed="rId3"/>
          <a:stretch/>
        </p:blipFill>
        <p:spPr>
          <a:xfrm>
            <a:off x="5040360" y="5040360"/>
            <a:ext cx="5040360" cy="251928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WordArt 3"/>
          <p:cNvSpPr txBox="1"/>
          <p:nvPr/>
        </p:nvSpPr>
        <p:spPr>
          <a:xfrm>
            <a:off x="539640" y="179280"/>
            <a:ext cx="918072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52735" dir="2700000" blurRad="0" rotWithShape="0">
                    <a:srgbClr val="868686"/>
                  </a:outerShdw>
                </a:effectLst>
                <a:latin typeface="Arial Black"/>
              </a:rPr>
              <a:t>Темы,   предлагаемые   учащимс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52735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7" name="WordArt 4"/>
          <p:cNvSpPr txBox="1"/>
          <p:nvPr/>
        </p:nvSpPr>
        <p:spPr>
          <a:xfrm>
            <a:off x="539640" y="1800360"/>
            <a:ext cx="899964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52735" dir="2700000" blurRad="0" rotWithShape="0">
                    <a:srgbClr val="868686"/>
                  </a:outerShdw>
                </a:effectLst>
                <a:latin typeface="Arial Black"/>
              </a:rPr>
              <a:t>для исследован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52735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8000" y="32396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тория развития науки нанотехнолог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уже дало нам развитие нанотехнолог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 каким отрицательным последствиям может привести развитие нанотехнологи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овы положительные прогнозы развития нанотехнологи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80" name="WordArt 2"/>
          <p:cNvSpPr txBox="1"/>
          <p:nvPr/>
        </p:nvSpPr>
        <p:spPr>
          <a:xfrm>
            <a:off x="539640" y="131760"/>
            <a:ext cx="9180720" cy="166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52735" dir="2700000" blurRad="0" rotWithShape="0">
                    <a:srgbClr val="868686"/>
                  </a:outerShdw>
                </a:effectLst>
                <a:latin typeface="Arial Black"/>
              </a:rPr>
              <a:t>Связь   со   школьной   программо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52735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68000" y="72072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Данный проект охватывает сразу несколько школьных предмет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изика: дифракция волн, атом, оптик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рганическая хим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иология: синтез белка, строение клетки, ДНК, РН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WordArt 5"/>
          <p:cNvSpPr txBox="1"/>
          <p:nvPr/>
        </p:nvSpPr>
        <p:spPr>
          <a:xfrm>
            <a:off x="900000" y="4500720"/>
            <a:ext cx="7380360" cy="12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52735" dir="2700000" blurRad="0" rotWithShape="0">
                    <a:srgbClr val="868686"/>
                  </a:outerShdw>
                </a:effectLst>
                <a:latin typeface="Arial Black"/>
              </a:rPr>
              <a:t>Возраст   учащихс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52735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3460680" y="6119640"/>
            <a:ext cx="314640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308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8-9 клас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WordArt 3"/>
          <p:cNvSpPr txBox="1"/>
          <p:nvPr/>
        </p:nvSpPr>
        <p:spPr>
          <a:xfrm>
            <a:off x="539640" y="539640"/>
            <a:ext cx="8280360" cy="12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52735" dir="2700000" blurRad="0" rotWithShape="0">
                    <a:srgbClr val="868686"/>
                  </a:outerShdw>
                </a:effectLst>
                <a:latin typeface="Arial Black"/>
              </a:rPr>
              <a:t>Аннотация   проекта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52735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ебный проект обобщает многие темы образовательного процесса: атом, оптика, дифракция волн, органическая химия, синтез белка и др. Самостоятельная работа с литературой, научными журналами, ресурсами Интернет, встречами с представителями медицины, промышленности, энергетики, учеными поможет учащимся исследовать проблемные вопрос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Ход, время, даты проведения проек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3" descr=""/>
          <p:cNvPicPr/>
          <p:nvPr/>
        </p:nvPicPr>
        <p:blipFill>
          <a:blip r:embed="rId2"/>
          <a:stretch/>
        </p:blipFill>
        <p:spPr>
          <a:xfrm>
            <a:off x="5759280" y="3060720"/>
            <a:ext cx="4319640" cy="450072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5040360" y="8459640"/>
            <a:ext cx="18108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360360" y="1979640"/>
            <a:ext cx="918036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Arial"/>
              </a:rPr>
              <a:t>Время проведения: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онец 10 – начало 11 класс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Arial"/>
              </a:rPr>
              <a:t>Срок проведения: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1месяц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Arial"/>
              </a:rPr>
              <a:t>Этапы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2600" spc="-1" strike="noStrike">
                <a:solidFill>
                  <a:srgbClr val="2323dc"/>
                </a:solidFill>
                <a:latin typeface="Arial"/>
              </a:rPr>
              <a:t> Подготовительный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2323dc"/>
                </a:solidFill>
                <a:latin typeface="Arial"/>
              </a:rPr>
              <a:t>Неделя физики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2323dc"/>
                </a:solidFill>
                <a:latin typeface="Arial"/>
              </a:rPr>
              <a:t>Неделя химии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2323dc"/>
                </a:solidFill>
                <a:latin typeface="Arial"/>
              </a:rPr>
              <a:t>Неделя биологии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2323dc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сознание проблемной ситуации, представление проекта ученикам, постановка целей – 1 занятие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ru-RU" sz="2600" spc="-1" strike="noStrike">
                <a:solidFill>
                  <a:srgbClr val="2300dc"/>
                </a:solidFill>
                <a:latin typeface="Arial"/>
              </a:rPr>
              <a:t>Проектировочный.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Постановка вопросов, выбор учащимися тем, формирование групп – 1 заняти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2600" spc="-1" strike="noStrike">
                <a:solidFill>
                  <a:srgbClr val="2323dc"/>
                </a:solidFill>
                <a:latin typeface="Arial"/>
              </a:rPr>
              <a:t>Практический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. Сбор информации, систематизация материалов, оформление результатов – 1 недел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ru-RU" sz="2600" spc="-1" strike="noStrike">
                <a:solidFill>
                  <a:srgbClr val="2323dc"/>
                </a:solidFill>
                <a:latin typeface="Arial"/>
              </a:rPr>
              <a:t>Защита проектов и подведение итогов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– 1 заняти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7T12:59:56Z</dcterms:created>
  <dc:creator/>
  <dc:description/>
  <dc:language>en-US</dc:language>
  <cp:lastModifiedBy>Nabster</cp:lastModifiedBy>
  <dcterms:modified xsi:type="dcterms:W3CDTF">2010-06-03T18:17:51Z</dcterms:modified>
  <cp:revision>7</cp:revision>
  <dc:subject/>
  <dc:title>Слайд 1</dc:title>
</cp:coreProperties>
</file>